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BA12-6A9B-4B18-ACEC-6BAE7A6F1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EA1C-5703-4B53-97C5-070592869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7FA7-2CE0-41DD-A94E-B804DBCA2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45FF-878B-446D-AADC-82DCA9EAB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56F5-31EF-40D7-B026-6296D662C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DE8B-F6E0-41F7-A646-657003A18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2606-7D2B-4FAD-83F6-687572411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95FD-092F-46BA-8CE8-7E9DBE5B8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B7AC-3CED-4C35-B7A5-F712F7FBB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A4D5-0CBE-46D9-B8A9-86F4F945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BE5B-E3DB-4BE1-AB83-AB08D5EB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BB79-45FB-4BFC-8523-00098ABB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6BA4F-E245-4571-9A9C-D74BCE990E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raktat.com/language/book/mestoim/znm.php" TargetMode="External"/><Relationship Id="rId2" Type="http://schemas.openxmlformats.org/officeDocument/2006/relationships/hyperlink" Target="http://www.traktat.com/language/book/mestoim/znm.php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19285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5a2c64"/>
                </a:solidFill>
                <a:uFillTx/>
                <a:latin typeface="Calibri"/>
              </a:rPr>
              <a:t>Тема</a:t>
            </a:r>
            <a:r>
              <a:rPr b="1" lang="ru-RU" sz="4800" spc="-1" strike="noStrike">
                <a:solidFill>
                  <a:srgbClr val="5a2c64"/>
                </a:solidFill>
                <a:latin typeface="Calibri"/>
              </a:rPr>
              <a:t>: Местоимение как часть речи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28840" y="3857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5a2c64"/>
                </a:solidFill>
                <a:latin typeface="Calibri"/>
              </a:rPr>
              <a:t>Русский язык, 6 класс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0040" y="1571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5a2c64"/>
                </a:solidFill>
                <a:uFillTx/>
                <a:latin typeface="Calibri"/>
              </a:rPr>
              <a:t>Основополагающий вопрос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42960" y="3000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a2c64"/>
                </a:solidFill>
                <a:latin typeface="Calibri"/>
              </a:rPr>
              <a:t>В чем заключается богатство русского язык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4296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5a2c64"/>
                </a:solidFill>
                <a:uFillTx/>
                <a:latin typeface="Calibri"/>
              </a:rPr>
              <a:t>Проблемный вопрос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00120" y="3286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a2c64"/>
                </a:solidFill>
                <a:latin typeface="Calibri"/>
              </a:rPr>
              <a:t>Какую роль играют местоимения в нашей реч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14240" y="499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a2c64"/>
                </a:solidFill>
                <a:latin typeface="Calibri"/>
              </a:rPr>
              <a:t>Учебные вопрос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42560" y="1714680"/>
            <a:ext cx="871524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5a2c64"/>
                </a:solidFill>
                <a:latin typeface="Calibri"/>
              </a:rPr>
              <a:t>Что такое местоимени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buClr>
                <a:srgbClr val="5a2c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a2c64"/>
                </a:solidFill>
                <a:latin typeface="Calibri"/>
              </a:rPr>
              <a:t>Какие виды местоимений бывают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buClr>
                <a:srgbClr val="5a2c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a2c64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5a2c64"/>
                </a:solidFill>
                <a:latin typeface="Calibri"/>
              </a:rPr>
              <a:t>Каковы основные морфологические особенности местоимени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buClr>
                <a:srgbClr val="5a2c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a2c64"/>
                </a:solidFill>
                <a:latin typeface="Calibri"/>
              </a:rPr>
              <a:t>Какие разряды местоимений существуют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a2c64"/>
                </a:solidFill>
                <a:latin typeface="Calibri"/>
              </a:rPr>
              <a:t>Данная тема рассчитана на 10 уроков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5a2c64"/>
                </a:solidFill>
                <a:uFillTx/>
                <a:latin typeface="Calibri"/>
              </a:rPr>
              <a:t>Представление результатов проект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a2c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a2c64"/>
                </a:solidFill>
                <a:latin typeface="Calibri"/>
              </a:rPr>
              <a:t>Бесе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a2c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a2c64"/>
                </a:solidFill>
                <a:latin typeface="Calibri"/>
              </a:rPr>
              <a:t>Самостоятельная рабо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a2c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a2c64"/>
                </a:solidFill>
                <a:latin typeface="Calibri"/>
              </a:rPr>
              <a:t>Сочин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a2c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a2c64"/>
                </a:solidFill>
                <a:latin typeface="Calibri"/>
              </a:rPr>
              <a:t>Презентац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a2c64"/>
                </a:solidFill>
                <a:latin typeface="Calibri"/>
              </a:rPr>
              <a:t>Ссылк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de66"/>
                </a:solidFill>
                <a:uFillTx/>
                <a:latin typeface="Calibri"/>
                <a:hlinkClick r:id="rId1"/>
              </a:rPr>
              <a:t>http://www.traktat.com/language/book/mestoim/znm.ph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de66"/>
                </a:solidFill>
                <a:uFillTx/>
                <a:latin typeface="Calibri"/>
                <a:hlinkClick r:id="rId2"/>
              </a:rPr>
              <a:t>http://www.traktat.com/language/book/mestoim/znm.ph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morpher.ru/Russian/Pronoun.asp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8760" y="18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a2c64"/>
                </a:solidFill>
                <a:latin typeface="Calibri"/>
              </a:rPr>
              <a:t>Автор: Власова Ирина Евгеньев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4T03:22:30Z</dcterms:created>
  <dc:creator>Admin</dc:creator>
  <dc:description/>
  <dc:language>en-US</dc:language>
  <cp:lastModifiedBy>студент</cp:lastModifiedBy>
  <dcterms:modified xsi:type="dcterms:W3CDTF">2011-04-18T11:24:00Z</dcterms:modified>
  <cp:revision>10</cp:revision>
  <dc:subject/>
  <dc:title>Тема: Местоимение как часть речи.</dc:title>
</cp:coreProperties>
</file>